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6284F-3359-477D-80A3-1E7AE4A0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F4F9-94F6-4A69-A0BD-65B80D4F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BF6BF-6626-4531-BC4A-08F28A2C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1A4C-6583-4AF7-88AE-CF666F82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7ADC-8641-4E9D-8CCA-CCD9623C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7EC1-BCC2-4A8F-8ACD-7FDD9844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D8CC-93D6-497A-8E64-E3618170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19CF-53A5-4121-AD4B-1FE22DD1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5D29-99B1-44F4-AB59-504DE71F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A1B6-F143-4654-8242-28572F52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C218-7041-4887-B410-02676287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EA4B-BD6B-41E1-B3FD-827F2272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4CF2-DAF3-4791-ABB5-7DF21D01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C52D-2A02-404B-930A-88013C6F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DFD5-6758-4B82-AB48-EF8C17E9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5D25-AFA1-4BD3-B875-7652D8CD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4CD0-757A-45E8-A119-83780E7F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6C1C-4D6D-4EB8-88E9-5C1DF434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95BE-631E-47C0-BA36-8C1F7CAF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FEBA-E49D-4800-87E3-46D8E29E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420A-41A2-4AF4-88CE-C27D7A06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E6CF-157A-4A12-B34E-31746A3A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2A438-E77F-4607-9D4D-8C34AF00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DF4A-E253-4629-8C12-CC72FF2F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DCBA-5D10-48AE-9CB9-F1E53754C787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D671-AB8A-419D-871B-0FBF81514ABA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33cc33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5400" spc="-1" strike="noStrike">
                <a:solidFill>
                  <a:srgbClr val="ffffcc"/>
                </a:solidFill>
                <a:latin typeface="Arial"/>
              </a:rPr>
              <a:t>هل تفضل أن تكون قائداً مميزاً؟؟؟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إذاً</a:t>
            </a: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أحرص على الاستفادة معنا .....اليوم</a:t>
            </a: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52200" y="171360"/>
            <a:ext cx="8965800" cy="6510240"/>
            <a:chOff x="52200" y="171360"/>
            <a:chExt cx="8965800" cy="6510240"/>
          </a:xfrm>
        </p:grpSpPr>
        <p:sp>
          <p:nvSpPr>
            <p:cNvPr id="599" name="_s12345"/>
            <p:cNvSpPr/>
            <p:nvPr/>
          </p:nvSpPr>
          <p:spPr>
            <a:xfrm flipH="1" flipV="1">
              <a:off x="2888640" y="1850040"/>
              <a:ext cx="1101960" cy="1049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_s12344"/>
            <p:cNvSpPr/>
            <p:nvPr/>
          </p:nvSpPr>
          <p:spPr>
            <a:xfrm>
              <a:off x="1407600" y="66888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onor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_s12343"/>
            <p:cNvSpPr/>
            <p:nvPr/>
          </p:nvSpPr>
          <p:spPr>
            <a:xfrm flipH="1" flipV="1">
              <a:off x="1874520" y="2826360"/>
              <a:ext cx="1774440" cy="3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_s12342"/>
            <p:cNvSpPr/>
            <p:nvPr/>
          </p:nvSpPr>
          <p:spPr>
            <a:xfrm>
              <a:off x="52200" y="196920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Communicate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With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_s12341"/>
            <p:cNvSpPr/>
            <p:nvPr/>
          </p:nvSpPr>
          <p:spPr>
            <a:xfrm flipH="1">
              <a:off x="1877760" y="3626280"/>
              <a:ext cx="1771560" cy="40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_s12340"/>
            <p:cNvSpPr/>
            <p:nvPr/>
          </p:nvSpPr>
          <p:spPr>
            <a:xfrm>
              <a:off x="52200" y="357876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derstand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iquenes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_s12339"/>
            <p:cNvSpPr/>
            <p:nvPr/>
          </p:nvSpPr>
          <p:spPr>
            <a:xfrm flipH="1">
              <a:off x="2894760" y="3952440"/>
              <a:ext cx="1091880" cy="10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_s12338"/>
            <p:cNvSpPr/>
            <p:nvPr/>
          </p:nvSpPr>
          <p:spPr>
            <a:xfrm>
              <a:off x="1407600" y="488124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Open his ey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_s12337"/>
            <p:cNvSpPr/>
            <p:nvPr/>
          </p:nvSpPr>
          <p:spPr>
            <a:xfrm>
              <a:off x="4533480" y="4076640"/>
              <a:ext cx="6840" cy="1299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_s12336"/>
            <p:cNvSpPr/>
            <p:nvPr/>
          </p:nvSpPr>
          <p:spPr>
            <a:xfrm>
              <a:off x="3601800" y="537660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Trust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abiliti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_s12335"/>
            <p:cNvSpPr/>
            <p:nvPr/>
          </p:nvSpPr>
          <p:spPr>
            <a:xfrm>
              <a:off x="5079960" y="3952440"/>
              <a:ext cx="1101960" cy="105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_s12334"/>
            <p:cNvSpPr/>
            <p:nvPr/>
          </p:nvSpPr>
          <p:spPr>
            <a:xfrm>
              <a:off x="5792760" y="4879080"/>
              <a:ext cx="187056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Never undermin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_s12333"/>
            <p:cNvSpPr/>
            <p:nvPr/>
          </p:nvSpPr>
          <p:spPr>
            <a:xfrm>
              <a:off x="5421240" y="3629160"/>
              <a:ext cx="1774440" cy="3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_s12332"/>
            <p:cNvSpPr/>
            <p:nvPr/>
          </p:nvSpPr>
          <p:spPr>
            <a:xfrm>
              <a:off x="7148160" y="357876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Appreciate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effort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12331"/>
            <p:cNvSpPr/>
            <p:nvPr/>
          </p:nvSpPr>
          <p:spPr>
            <a:xfrm flipV="1">
              <a:off x="5421240" y="2821320"/>
              <a:ext cx="1770480" cy="40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_s12330"/>
            <p:cNvSpPr/>
            <p:nvPr/>
          </p:nvSpPr>
          <p:spPr>
            <a:xfrm>
              <a:off x="7148160" y="196920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Motivate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desir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_s12329"/>
            <p:cNvSpPr/>
            <p:nvPr/>
          </p:nvSpPr>
          <p:spPr>
            <a:xfrm flipV="1">
              <a:off x="5083200" y="1847160"/>
              <a:ext cx="1091880" cy="10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_s12328"/>
            <p:cNvSpPr/>
            <p:nvPr/>
          </p:nvSpPr>
          <p:spPr>
            <a:xfrm>
              <a:off x="5792760" y="666720"/>
              <a:ext cx="187056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derstan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is feeling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_s12327"/>
            <p:cNvSpPr/>
            <p:nvPr/>
          </p:nvSpPr>
          <p:spPr>
            <a:xfrm flipV="1">
              <a:off x="4533480" y="1475640"/>
              <a:ext cx="0" cy="129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_s12326"/>
            <p:cNvSpPr/>
            <p:nvPr/>
          </p:nvSpPr>
          <p:spPr>
            <a:xfrm>
              <a:off x="3598560" y="171360"/>
              <a:ext cx="186984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ear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_s12325"/>
            <p:cNvSpPr/>
            <p:nvPr/>
          </p:nvSpPr>
          <p:spPr>
            <a:xfrm>
              <a:off x="3598560" y="2776320"/>
              <a:ext cx="186984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uman touch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228600" y="1648800"/>
            <a:ext cx="8686440" cy="4700520"/>
            <a:chOff x="228600" y="1648800"/>
            <a:chExt cx="8686440" cy="4700520"/>
          </a:xfrm>
        </p:grpSpPr>
        <p:sp>
          <p:nvSpPr>
            <p:cNvPr id="621" name="_s13365"/>
            <p:cNvSpPr/>
            <p:nvPr/>
          </p:nvSpPr>
          <p:spPr>
            <a:xfrm flipV="1">
              <a:off x="3848040" y="1648440"/>
              <a:ext cx="1446840" cy="783720"/>
            </a:xfrm>
            <a:custGeom>
              <a:avLst/>
              <a:gdLst>
                <a:gd name="textAreaLeft" fmla="*/ 519120 w 1446840"/>
                <a:gd name="textAreaRight" fmla="*/ 927720 w 1446840"/>
                <a:gd name="textAreaTop" fmla="*/ 281160 h 783720"/>
                <a:gd name="textAreaBottom" fmla="*/ 50256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رؤ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_s13366"/>
            <p:cNvSpPr/>
            <p:nvPr/>
          </p:nvSpPr>
          <p:spPr>
            <a:xfrm flipV="1">
              <a:off x="3123720" y="2432520"/>
              <a:ext cx="2895480" cy="783360"/>
            </a:xfrm>
            <a:custGeom>
              <a:avLst/>
              <a:gdLst>
                <a:gd name="textAreaLeft" fmla="*/ 636480 w 2895480"/>
                <a:gd name="textAreaRight" fmla="*/ 2259000 w 2895480"/>
                <a:gd name="textAreaTop" fmla="*/ 172080 h 783360"/>
                <a:gd name="textAreaBottom" fmla="*/ 61128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عمل الجماع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_s13367"/>
            <p:cNvSpPr/>
            <p:nvPr/>
          </p:nvSpPr>
          <p:spPr>
            <a:xfrm flipV="1">
              <a:off x="2400120" y="3215520"/>
              <a:ext cx="4342680" cy="783720"/>
            </a:xfrm>
            <a:custGeom>
              <a:avLst/>
              <a:gdLst>
                <a:gd name="textAreaLeft" fmla="*/ 753840 w 4342680"/>
                <a:gd name="textAreaRight" fmla="*/ 3588840 w 434268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ـحـدث الايـجــابــــ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_s13368"/>
            <p:cNvSpPr/>
            <p:nvPr/>
          </p:nvSpPr>
          <p:spPr>
            <a:xfrm flipV="1">
              <a:off x="1675800" y="3999240"/>
              <a:ext cx="5791320" cy="783720"/>
            </a:xfrm>
            <a:custGeom>
              <a:avLst/>
              <a:gdLst>
                <a:gd name="textAreaLeft" fmla="*/ 871200 w 5791320"/>
                <a:gd name="textAreaRight" fmla="*/ 4920120 w 579132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سـتـمــاع الجــــــيـــــــ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_s13369"/>
            <p:cNvSpPr/>
            <p:nvPr/>
          </p:nvSpPr>
          <p:spPr>
            <a:xfrm flipV="1">
              <a:off x="952200" y="4782960"/>
              <a:ext cx="7238520" cy="783720"/>
            </a:xfrm>
            <a:custGeom>
              <a:avLst/>
              <a:gdLst>
                <a:gd name="textAreaLeft" fmla="*/ 988560 w 7238520"/>
                <a:gd name="textAreaRight" fmla="*/ 6249960 w 723852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تـــصــــال الغــيـر مـــبـــــاش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_s13371"/>
            <p:cNvSpPr/>
            <p:nvPr/>
          </p:nvSpPr>
          <p:spPr>
            <a:xfrm flipV="1">
              <a:off x="228600" y="5567040"/>
              <a:ext cx="8686440" cy="781560"/>
            </a:xfrm>
            <a:custGeom>
              <a:avLst/>
              <a:gdLst>
                <a:gd name="textAreaLeft" fmla="*/ 1105920 w 8686440"/>
                <a:gd name="textAreaRight" fmla="*/ 7580520 w 8686440"/>
                <a:gd name="textAreaTop" fmla="*/ 99360 h 781560"/>
                <a:gd name="textAreaBottom" fmla="*/ 68220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ـــــتــــــــحــــــــفـــــــــيــــــــــــــ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مميزات القائ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ثانياً: مهارات التفاو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تفاوض: هو فن ينطوي على أعمال التخطيط والرقابة والتحليل التي يستخدمها طرفي التفاوض للوصول الى اتفاق يرضي كلا الطرفي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متى تتم عملية التفاوض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عندما يشترك الطرفان في مصلحة واح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رغب الطرفان في التفاوض بحثاً عن وضع أفض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تيقن الطرفان ان دخول المفاوضات حل أفضل من الجمود أو الصرا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"/>
          <p:cNvGrpSpPr/>
          <p:nvPr/>
        </p:nvGrpSpPr>
        <p:grpSpPr>
          <a:xfrm>
            <a:off x="228600" y="171360"/>
            <a:ext cx="8686440" cy="6512040"/>
            <a:chOff x="228600" y="171360"/>
            <a:chExt cx="8686440" cy="6512040"/>
          </a:xfrm>
        </p:grpSpPr>
        <p:sp>
          <p:nvSpPr>
            <p:cNvPr id="633" name="_s92183"/>
            <p:cNvSpPr/>
            <p:nvPr/>
          </p:nvSpPr>
          <p:spPr>
            <a:xfrm flipH="1" flipV="1">
              <a:off x="3037680" y="22762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_s92182"/>
            <p:cNvSpPr/>
            <p:nvPr/>
          </p:nvSpPr>
          <p:spPr>
            <a:xfrm>
              <a:off x="1180440" y="88596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قانو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_s92181"/>
            <p:cNvSpPr/>
            <p:nvPr/>
          </p:nvSpPr>
          <p:spPr>
            <a:xfrm flipH="1">
              <a:off x="2402640" y="3426480"/>
              <a:ext cx="108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_s92180"/>
            <p:cNvSpPr/>
            <p:nvPr/>
          </p:nvSpPr>
          <p:spPr>
            <a:xfrm>
              <a:off x="228600" y="261432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ثقافة الخص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_s92179"/>
            <p:cNvSpPr/>
            <p:nvPr/>
          </p:nvSpPr>
          <p:spPr>
            <a:xfrm flipH="1">
              <a:off x="3037680" y="40006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_s92178"/>
            <p:cNvSpPr/>
            <p:nvPr/>
          </p:nvSpPr>
          <p:spPr>
            <a:xfrm>
              <a:off x="1184040" y="434088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خلفية المشترك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للمتفاوضي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_s92177"/>
            <p:cNvSpPr/>
            <p:nvPr/>
          </p:nvSpPr>
          <p:spPr>
            <a:xfrm>
              <a:off x="4571640" y="4238640"/>
              <a:ext cx="0" cy="81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_s92176"/>
            <p:cNvSpPr/>
            <p:nvPr/>
          </p:nvSpPr>
          <p:spPr>
            <a:xfrm>
              <a:off x="3488760" y="505512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داف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_s92175"/>
            <p:cNvSpPr/>
            <p:nvPr/>
          </p:nvSpPr>
          <p:spPr>
            <a:xfrm>
              <a:off x="5337000" y="40006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_s92174"/>
            <p:cNvSpPr/>
            <p:nvPr/>
          </p:nvSpPr>
          <p:spPr>
            <a:xfrm>
              <a:off x="5790600" y="433872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بيئة المحيط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_s92173"/>
            <p:cNvSpPr/>
            <p:nvPr/>
          </p:nvSpPr>
          <p:spPr>
            <a:xfrm>
              <a:off x="5654520" y="3426480"/>
              <a:ext cx="108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_s92172"/>
            <p:cNvSpPr/>
            <p:nvPr/>
          </p:nvSpPr>
          <p:spPr>
            <a:xfrm>
              <a:off x="6743160" y="261216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موازين القوى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_s92171"/>
            <p:cNvSpPr/>
            <p:nvPr/>
          </p:nvSpPr>
          <p:spPr>
            <a:xfrm flipV="1">
              <a:off x="5337000" y="22762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_s92170"/>
            <p:cNvSpPr/>
            <p:nvPr/>
          </p:nvSpPr>
          <p:spPr>
            <a:xfrm>
              <a:off x="5787720" y="88596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رتيب المتطلب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_s92169"/>
            <p:cNvSpPr/>
            <p:nvPr/>
          </p:nvSpPr>
          <p:spPr>
            <a:xfrm flipV="1">
              <a:off x="4571640" y="1799640"/>
              <a:ext cx="0" cy="81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_s92168"/>
            <p:cNvSpPr/>
            <p:nvPr/>
          </p:nvSpPr>
          <p:spPr>
            <a:xfrm>
              <a:off x="3485880" y="17136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أجن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_s92167"/>
            <p:cNvSpPr/>
            <p:nvPr/>
          </p:nvSpPr>
          <p:spPr>
            <a:xfrm>
              <a:off x="3485880" y="261432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عوامل المؤثر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في التفاو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الأشكال المختلفة للتفاو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09880" y="1066680"/>
            <a:ext cx="5334120" cy="1219320"/>
          </a:xfrm>
          <a:prstGeom prst="leftRightArrow">
            <a:avLst>
              <a:gd name="adj1" fmla="val 50000"/>
              <a:gd name="adj2" fmla="val 87088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كسب......أنت تكس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86200" y="2819520"/>
            <a:ext cx="5029200" cy="1143000"/>
          </a:xfrm>
          <a:prstGeom prst="leftArrow">
            <a:avLst>
              <a:gd name="adj1" fmla="val 50000"/>
              <a:gd name="adj2" fmla="val 110000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خسر.....أنت تكس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48320" y="4648320"/>
            <a:ext cx="4495680" cy="1143000"/>
          </a:xfrm>
          <a:prstGeom prst="rightArrow">
            <a:avLst>
              <a:gd name="adj1" fmla="val 50000"/>
              <a:gd name="adj2" fmla="val 98331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كسب......أنت تخس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28600" y="2057400"/>
            <a:ext cx="3733920" cy="4495680"/>
          </a:xfrm>
          <a:prstGeom prst="irregularSeal1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خسر......أنا تخس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9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لضمان  تفاوض فعال عليك بـــ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تحديد هدف واستراتيجية التفاو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أعمل بناء على الثق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قم بالبحث المتكام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نصت جيداً للطرف الآخ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ثق في كونك طرفاً رابحا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قيم جيداً الاختيارات المتاح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أعرف الأجندة الخفية للخص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96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000" spc="-1" strike="noStrike">
                <a:solidFill>
                  <a:srgbClr val="ffffcc"/>
                </a:solidFill>
                <a:latin typeface="Arial"/>
              </a:rPr>
              <a:t>شــكـــــراً لـــكـــــــم.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وبكم نحن........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ffff"/>
                </a:solidFill>
                <a:latin typeface="Arial"/>
              </a:rPr>
              <a:t>أفـضـــل مـــــن الأفــضــــــــل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5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5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5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EG" sz="6000" spc="-1" strike="noStrike">
                <a:solidFill>
                  <a:srgbClr val="ffffcc"/>
                </a:solidFill>
                <a:latin typeface="Arial"/>
                <a:cs typeface="Andalus"/>
              </a:rPr>
              <a:t>مهارات القيادة وأسس التفاوض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أولاً: مهارات القيادة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700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هي عملية تحريك مجموعة من الناس بإتجاه محدد ومخطط وذلك بتحفيزهم على العمل بإختيارهم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القيادة الناجحة:  هي التي تهدف إلى تحريك الناس في الإتجاه الذي يحقق مصالحهم على المدى البعيد وهي أيضاً بهدف التأثير في الآخري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389880" y="169560"/>
            <a:ext cx="8363160" cy="5978160"/>
            <a:chOff x="389880" y="169560"/>
            <a:chExt cx="8363160" cy="5978160"/>
          </a:xfrm>
        </p:grpSpPr>
        <p:sp>
          <p:nvSpPr>
            <p:cNvPr id="520" name="_s6161"/>
            <p:cNvSpPr/>
            <p:nvPr/>
          </p:nvSpPr>
          <p:spPr>
            <a:xfrm flipH="1" flipV="1">
              <a:off x="2510640" y="2894040"/>
              <a:ext cx="1028520" cy="24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_s6160"/>
            <p:cNvSpPr/>
            <p:nvPr/>
          </p:nvSpPr>
          <p:spPr>
            <a:xfrm>
              <a:off x="389880" y="1836720"/>
              <a:ext cx="217188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ثق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_s6159"/>
            <p:cNvSpPr/>
            <p:nvPr/>
          </p:nvSpPr>
          <p:spPr>
            <a:xfrm flipH="1">
              <a:off x="3298320" y="4040280"/>
              <a:ext cx="634680" cy="64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6158"/>
            <p:cNvSpPr/>
            <p:nvPr/>
          </p:nvSpPr>
          <p:spPr>
            <a:xfrm>
              <a:off x="1571400" y="453744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حديد الأولوي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_s6157"/>
            <p:cNvSpPr/>
            <p:nvPr/>
          </p:nvSpPr>
          <p:spPr>
            <a:xfrm>
              <a:off x="5209560" y="4040280"/>
              <a:ext cx="638280" cy="64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_s6156"/>
            <p:cNvSpPr/>
            <p:nvPr/>
          </p:nvSpPr>
          <p:spPr>
            <a:xfrm>
              <a:off x="5400360" y="453744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نمية عوامل القو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_s6155"/>
            <p:cNvSpPr/>
            <p:nvPr/>
          </p:nvSpPr>
          <p:spPr>
            <a:xfrm flipV="1">
              <a:off x="5603400" y="2891160"/>
              <a:ext cx="1031400" cy="249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_s6154"/>
            <p:cNvSpPr/>
            <p:nvPr/>
          </p:nvSpPr>
          <p:spPr>
            <a:xfrm>
              <a:off x="6581160" y="1836720"/>
              <a:ext cx="217188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ركيز على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نجاز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_s6153"/>
            <p:cNvSpPr/>
            <p:nvPr/>
          </p:nvSpPr>
          <p:spPr>
            <a:xfrm flipV="1">
              <a:off x="4571640" y="1780200"/>
              <a:ext cx="0" cy="80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_s6152"/>
            <p:cNvSpPr/>
            <p:nvPr/>
          </p:nvSpPr>
          <p:spPr>
            <a:xfrm>
              <a:off x="3485880" y="16956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حكم في الوق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6151"/>
            <p:cNvSpPr/>
            <p:nvPr/>
          </p:nvSpPr>
          <p:spPr>
            <a:xfrm>
              <a:off x="3485880" y="258516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عناصر في القائ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 تجاه الأفرا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279000" y="171360"/>
            <a:ext cx="8587800" cy="6364800"/>
            <a:chOff x="279000" y="171360"/>
            <a:chExt cx="8587800" cy="6364800"/>
          </a:xfrm>
        </p:grpSpPr>
        <p:sp>
          <p:nvSpPr>
            <p:cNvPr id="532" name="_s7211"/>
            <p:cNvSpPr/>
            <p:nvPr/>
          </p:nvSpPr>
          <p:spPr>
            <a:xfrm flipH="1" flipV="1">
              <a:off x="3037680" y="2059920"/>
              <a:ext cx="907560" cy="80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_s7210"/>
            <p:cNvSpPr/>
            <p:nvPr/>
          </p:nvSpPr>
          <p:spPr>
            <a:xfrm>
              <a:off x="1428120" y="7596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قدرات الادار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7209"/>
            <p:cNvSpPr/>
            <p:nvPr/>
          </p:nvSpPr>
          <p:spPr>
            <a:xfrm flipH="1" flipV="1">
              <a:off x="2224800" y="3119040"/>
              <a:ext cx="1390680" cy="18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_s7208"/>
            <p:cNvSpPr/>
            <p:nvPr/>
          </p:nvSpPr>
          <p:spPr>
            <a:xfrm>
              <a:off x="279000" y="2257560"/>
              <a:ext cx="1958760" cy="146844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</a:rPr>
                <a:t>مهارات الاتصال و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</a:rPr>
                <a:t>التخاط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7207"/>
            <p:cNvSpPr/>
            <p:nvPr/>
          </p:nvSpPr>
          <p:spPr>
            <a:xfrm flipH="1">
              <a:off x="2510640" y="3793320"/>
              <a:ext cx="1222200" cy="53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_s7206"/>
            <p:cNvSpPr/>
            <p:nvPr/>
          </p:nvSpPr>
          <p:spPr>
            <a:xfrm>
              <a:off x="682200" y="395748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ضح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7205"/>
            <p:cNvSpPr/>
            <p:nvPr/>
          </p:nvSpPr>
          <p:spPr>
            <a:xfrm flipH="1">
              <a:off x="3762000" y="4112280"/>
              <a:ext cx="482040" cy="995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_s7204"/>
            <p:cNvSpPr/>
            <p:nvPr/>
          </p:nvSpPr>
          <p:spPr>
            <a:xfrm>
              <a:off x="2447640" y="50670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حز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_s7203"/>
            <p:cNvSpPr/>
            <p:nvPr/>
          </p:nvSpPr>
          <p:spPr>
            <a:xfrm>
              <a:off x="4907880" y="4109760"/>
              <a:ext cx="482760" cy="995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7202"/>
            <p:cNvSpPr/>
            <p:nvPr/>
          </p:nvSpPr>
          <p:spPr>
            <a:xfrm>
              <a:off x="4749480" y="506484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طاقة والنشا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_s7201"/>
            <p:cNvSpPr/>
            <p:nvPr/>
          </p:nvSpPr>
          <p:spPr>
            <a:xfrm>
              <a:off x="5416200" y="3788280"/>
              <a:ext cx="1222200" cy="53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_s7200"/>
            <p:cNvSpPr/>
            <p:nvPr/>
          </p:nvSpPr>
          <p:spPr>
            <a:xfrm>
              <a:off x="6511320" y="395244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نضج والآراء الجي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_s7199"/>
            <p:cNvSpPr/>
            <p:nvPr/>
          </p:nvSpPr>
          <p:spPr>
            <a:xfrm flipV="1">
              <a:off x="5530680" y="3114000"/>
              <a:ext cx="1389960" cy="18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7198"/>
            <p:cNvSpPr/>
            <p:nvPr/>
          </p:nvSpPr>
          <p:spPr>
            <a:xfrm>
              <a:off x="6908760" y="2252520"/>
              <a:ext cx="195804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خلا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_s7197"/>
            <p:cNvSpPr/>
            <p:nvPr/>
          </p:nvSpPr>
          <p:spPr>
            <a:xfrm flipV="1">
              <a:off x="5197320" y="2054520"/>
              <a:ext cx="907560" cy="81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_s7196"/>
            <p:cNvSpPr/>
            <p:nvPr/>
          </p:nvSpPr>
          <p:spPr>
            <a:xfrm>
              <a:off x="5756040" y="7596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شخصية القو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_s7195"/>
            <p:cNvSpPr/>
            <p:nvPr/>
          </p:nvSpPr>
          <p:spPr>
            <a:xfrm flipV="1">
              <a:off x="4571640" y="1638000"/>
              <a:ext cx="0" cy="105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_s7194"/>
            <p:cNvSpPr/>
            <p:nvPr/>
          </p:nvSpPr>
          <p:spPr>
            <a:xfrm>
              <a:off x="3593880" y="17136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شعور بأهم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رسال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_s7193"/>
            <p:cNvSpPr/>
            <p:nvPr/>
          </p:nvSpPr>
          <p:spPr>
            <a:xfrm>
              <a:off x="3593880" y="269532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صفات القائ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ناج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50920" y="763560"/>
            <a:ext cx="8353440" cy="28065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5940360" y="620640"/>
            <a:ext cx="0" cy="208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1627200"/>
            <a:ext cx="0" cy="208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940360" y="3067200"/>
            <a:ext cx="0" cy="64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87640" y="619200"/>
            <a:ext cx="0" cy="64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24360" y="260280"/>
            <a:ext cx="30243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179280" y="260280"/>
            <a:ext cx="2952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601200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88508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09888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97196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98000" y="549360"/>
            <a:ext cx="79236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71800" y="549360"/>
            <a:ext cx="79200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03640" y="71280"/>
            <a:ext cx="252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9999"/>
                </a:solidFill>
                <a:latin typeface="Verdana"/>
                <a:cs typeface="AdvertisingBold"/>
              </a:rPr>
              <a:t>أنماط القيادة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dvertising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8800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تسل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784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ديمقرا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4772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حــــــ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824400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7164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940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0002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6764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83528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44607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74072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ويعلن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58800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قن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ب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6400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م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9564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قترح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كون مستعد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تغير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56000" y="4292640"/>
            <a:ext cx="93636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لق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قتراحات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خذ 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0328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فو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في اتخ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928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يفو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سلط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تخا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5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5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5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5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5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5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5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أنماط القائ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ديموقراط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19520" y="243828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يستمع لآراء المرؤوسي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95480" y="33526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تسود فيه روح الفريق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819520" y="419112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ائد و احد من المجموع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3565440" cy="50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5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- الغير موجه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819520" y="236232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ليست هناك رقابة لصيق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19520" y="320040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ائد بعيد عن المجموع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111240" y="2209680"/>
            <a:ext cx="4537080" cy="40276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2895480" y="167652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يترك الحبل على الغارب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26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76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26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- الديكتاتوري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9863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3132000" y="15238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لا يسمح بالمشارك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132000" y="24382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رارات فردية و فوقي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132000" y="33526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رقابة لصيقة جداً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9-04-19T12:31:1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